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017-6499-463F-85CF-CA7DFA7C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F5A-BDDC-4C30-8DAA-1CFDA8D5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920-0262-4351-B11E-79A4A027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139-4376-4AAF-A613-F8F65E42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244-8550-489E-8FA4-2E806C4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DF8-2609-404D-9E8F-F3F737A7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E5A-0EC1-4DC0-9016-CA8076A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12B-3E3F-4716-B95E-3F090FE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4E5-A1A4-4BCF-855D-4577406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F08-B8EF-437C-959A-523A12B2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9F4-A143-4CAA-9E9D-416CDA1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9B2-60BF-4DFA-8A58-0317C7CC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3ED3-46EB-4B9D-B72F-C8F7E3A768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&#201;RASE%20QUE%20SE%20ERA.pps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1520" y="825120"/>
            <a:ext cx="4586400" cy="7700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A CIENCIA-FICCIÓ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13880" y="4381200"/>
            <a:ext cx="5286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Naceu ao socaire dos avances científicos e tecnolóxicos do XIX e do XX, que favoreceron un ambiente de confianza social na intelixencia humana. Concibiuse a esperanza de que calquera fronteira podía ser conquistada. A imaxinación dos artistas lanzouse a esa tarefa e mesmo se albiscou un horizonte no que limitacións como o tempo, o espazo, ou a nosa condición material podían ser abo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RT_Montgolfier_18731121"/>
          <p:cNvPicPr/>
          <p:nvPr/>
        </p:nvPicPr>
        <p:blipFill>
          <a:blip r:embed="rId1"/>
          <a:stretch/>
        </p:blipFill>
        <p:spPr>
          <a:xfrm>
            <a:off x="2416320" y="1738440"/>
            <a:ext cx="215568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5E44-7FC2-4CD7-A917-8EC6A3C05E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1095480"/>
            <a:ext cx="6172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Un superheroe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sempre te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4452480"/>
            <a:ext cx="60861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Unha orixe na que se converte en superheroe, ben por ser extraterrestre ou vítima dun experimento científico que operou nel a transformación, ou un trauma que o leva a dotarse dunha aparataxe que o fai invencíbel e co que pode desenvolver os seus plans de ving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action-comics-5-kal-el"/>
          <p:cNvPicPr/>
          <p:nvPr/>
        </p:nvPicPr>
        <p:blipFill>
          <a:blip r:embed="rId1"/>
          <a:stretch/>
        </p:blipFill>
        <p:spPr>
          <a:xfrm>
            <a:off x="2500200" y="2381400"/>
            <a:ext cx="2149560" cy="1928520"/>
          </a:xfrm>
          <a:prstGeom prst="rect">
            <a:avLst/>
          </a:prstGeom>
          <a:ln w="0">
            <a:noFill/>
          </a:ln>
        </p:spPr>
      </p:pic>
      <p:sp>
        <p:nvSpPr>
          <p:cNvPr id="83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08BE-74EE-4F6C-85A1-736CD2B46F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1309680"/>
            <a:ext cx="58010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E para ser superheroe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hai que…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8800" y="4095720"/>
            <a:ext cx="501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Ter superpoderes como o de lanzar raios, ser maleable, ter forza sobrehumana, invulnerabilidade, telepatía, telequinese, poderes místicos ou habilidades para dobregar a seres sobrenaturais que traballen para un; tampouco veñen mal os coñecementos en artes marciais ou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saberes científ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 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, normalmente, convén ser un atleta excepcional e un exemplar anatomicamente modé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woman_vs_Batman_by_Romax25"/>
          <p:cNvPicPr/>
          <p:nvPr/>
        </p:nvPicPr>
        <p:blipFill>
          <a:blip r:embed="rId1"/>
          <a:stretch/>
        </p:blipFill>
        <p:spPr>
          <a:xfrm>
            <a:off x="1285920" y="2532240"/>
            <a:ext cx="928800" cy="14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apitán-América-300x225"/>
          <p:cNvPicPr/>
          <p:nvPr/>
        </p:nvPicPr>
        <p:blipFill>
          <a:blip r:embed="rId2"/>
          <a:stretch/>
        </p:blipFill>
        <p:spPr>
          <a:xfrm>
            <a:off x="2343240" y="2252520"/>
            <a:ext cx="2014560" cy="17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daredevil-reboot-movie"/>
          <p:cNvPicPr/>
          <p:nvPr/>
        </p:nvPicPr>
        <p:blipFill>
          <a:blip r:embed="rId3"/>
          <a:stretch/>
        </p:blipFill>
        <p:spPr>
          <a:xfrm>
            <a:off x="4468680" y="2452680"/>
            <a:ext cx="1433520" cy="1265400"/>
          </a:xfrm>
          <a:prstGeom prst="rect">
            <a:avLst/>
          </a:prstGeom>
          <a:ln w="0">
            <a:noFill/>
          </a:ln>
        </p:spPr>
      </p:pic>
      <p:sp>
        <p:nvSpPr>
          <p:cNvPr id="89" name="8 Marcador de número de diapositiva"/>
          <p:cNvSpPr/>
          <p:nvPr/>
        </p:nvSpPr>
        <p:spPr>
          <a:xfrm>
            <a:off x="5011560" y="9348840"/>
            <a:ext cx="150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7DF0-EEBD-40B2-9140-EA525BD10B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095480"/>
            <a:ext cx="49435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E tamén…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7160" y="4381200"/>
            <a:ext cx="51436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Pero estes atributos son inútiles se non se posúe unha identidade secreta que se abandona cando se viste o uniforme de superheroe (favorecedor e provisto de máscara) e un viláns inimigos de confianza aos que se enfrontar e ve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día tras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 se ademais nos empadroamos nunha cidade como Gotham ou Metrópole, onde todo xira arredor de un, xa será o máis de m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260px-Duende_Verde_por_Glen_Orbik"/>
          <p:cNvPicPr/>
          <p:nvPr/>
        </p:nvPicPr>
        <p:blipFill>
          <a:blip r:embed="rId1"/>
          <a:stretch/>
        </p:blipFill>
        <p:spPr>
          <a:xfrm>
            <a:off x="1071720" y="2368440"/>
            <a:ext cx="1009440" cy="186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pider-Man2Wallpaper800"/>
          <p:cNvPicPr/>
          <p:nvPr/>
        </p:nvPicPr>
        <p:blipFill>
          <a:blip r:embed="rId2"/>
          <a:stretch/>
        </p:blipFill>
        <p:spPr>
          <a:xfrm>
            <a:off x="2241720" y="1938240"/>
            <a:ext cx="2477880" cy="23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1233989475228_f"/>
          <p:cNvPicPr/>
          <p:nvPr/>
        </p:nvPicPr>
        <p:blipFill>
          <a:blip r:embed="rId3"/>
          <a:stretch/>
        </p:blipFill>
        <p:spPr>
          <a:xfrm>
            <a:off x="4888080" y="2309760"/>
            <a:ext cx="1110960" cy="1893960"/>
          </a:xfrm>
          <a:prstGeom prst="rect">
            <a:avLst/>
          </a:prstGeom>
          <a:ln w="0">
            <a:noFill/>
          </a:ln>
        </p:spPr>
      </p:pic>
      <p:sp>
        <p:nvSpPr>
          <p:cNvPr id="95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8DF7-B78E-4BF7-AEA7-4709C21318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00120" y="1666800"/>
            <a:ext cx="4014720" cy="7072560"/>
          </a:xfrm>
          <a:prstGeom prst="rect">
            <a:avLst/>
          </a:prstGeom>
          <a:solidFill>
            <a:srgbClr val="ffe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Pero, nesta exposición, a ciencia ficción e os superheroes case non están: </a:t>
            </a:r>
            <a:r>
              <a:rPr b="1" lang="es-ES" sz="4400" spc="-1" strike="noStrike">
                <a:solidFill>
                  <a:srgbClr val="c00000"/>
                </a:solidFill>
                <a:latin typeface="DK Thievery"/>
              </a:rPr>
              <a:t>hai tanto que o deixamos para</a:t>
            </a:r>
            <a:br>
              <a:rPr sz="4400"/>
            </a:br>
            <a:r>
              <a:rPr b="1" lang="es-ES" sz="4400" spc="-1" strike="noStrike">
                <a:solidFill>
                  <a:srgbClr val="c00000"/>
                </a:solidFill>
                <a:latin typeface="DK Thievery"/>
              </a:rPr>
              <a:t>á seguinte actividade 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7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1304-D7E1-4264-BDBF-32F8BAEBC6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Rectángulo">
            <a:hlinkClick r:id="rId1"/>
          </p:cNvPr>
          <p:cNvSpPr/>
          <p:nvPr/>
        </p:nvSpPr>
        <p:spPr>
          <a:xfrm>
            <a:off x="3143160" y="859644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960" y="1095120"/>
            <a:ext cx="58579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s primeiros visionario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3952800"/>
            <a:ext cx="585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Aínda que xa desde antigo a literatura ofreceu imaxes visionarias do futuro e a mesma confianza na inventiva humana que subxace na xénese do xénero (o mito grego de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Ícaro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ou o xudeu do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Golem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, as viaxes á lúa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Luciano de Samosata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,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Cyrano de Bergerac 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ou do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Baron de Münchaussen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, a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Utopía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Moro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ou o </a:t>
            </a:r>
            <a:r>
              <a:rPr b="1" lang="es-ES" sz="2800" spc="-1" strike="noStrike">
                <a:solidFill>
                  <a:srgbClr val="3c8c93"/>
                </a:solidFill>
                <a:latin typeface="DK Thievery"/>
              </a:rPr>
              <a:t>Somnium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 de </a:t>
            </a:r>
            <a:r>
              <a:rPr b="1" lang="es-ES" sz="2800" spc="-1" strike="noStrike">
                <a:solidFill>
                  <a:srgbClr val="ff0000"/>
                </a:solidFill>
                <a:latin typeface="DK Thievery"/>
              </a:rPr>
              <a:t>Kepler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…) a ciencia ficción nace no X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uento-viaje_luna-quellegamos"/>
          <p:cNvPicPr/>
          <p:nvPr/>
        </p:nvPicPr>
        <p:blipFill>
          <a:blip r:embed="rId1"/>
          <a:srcRect l="0" t="20901" r="0" b="0"/>
          <a:stretch/>
        </p:blipFill>
        <p:spPr>
          <a:xfrm>
            <a:off x="1969920" y="1938240"/>
            <a:ext cx="3316320" cy="1871640"/>
          </a:xfrm>
          <a:prstGeom prst="rect">
            <a:avLst/>
          </a:prstGeom>
          <a:ln w="0">
            <a:noFill/>
          </a:ln>
        </p:spPr>
      </p:pic>
      <p:sp>
        <p:nvSpPr>
          <p:cNvPr id="4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CEDB-89C6-4CF5-9791-DABA55EE55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952200"/>
            <a:ext cx="47880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s pioneiros do XIX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4640" y="4738680"/>
            <a:ext cx="5810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Mary Shelley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Frankenstein ou o moderno Prometeo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Edgar Allan Poe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Von Kempelen </a:t>
            </a:r>
            <a:r>
              <a:rPr b="1" i="1" lang="gl-ES" sz="2000" spc="-1" strike="noStrike">
                <a:solidFill>
                  <a:srgbClr val="000000"/>
                </a:solidFill>
                <a:latin typeface="DK Thievery"/>
              </a:rPr>
              <a:t>e a súa descoberta, 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 verdade sobre o caso do señor Valdemar</a:t>
            </a:r>
            <a:r>
              <a:rPr b="1" i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H. G. Wells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 máquina do tempo</a:t>
            </a:r>
            <a:r>
              <a:rPr b="1" lang="gl-ES" sz="2000" spc="-1" strike="noStrike">
                <a:solidFill>
                  <a:srgbClr val="3c8c93"/>
                </a:solidFill>
                <a:latin typeface="DK Thievery"/>
              </a:rPr>
              <a:t>, 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 guerra dos mundos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Verne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Da terra á lúa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Dickens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 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Bleak House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Enrique Gaspar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Anacronópete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Mark Twain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Un ianqui na corte do rei Artur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, e </a:t>
            </a:r>
            <a:r>
              <a:rPr b="1" lang="gl-ES" sz="2000" spc="-1" strike="noStrike">
                <a:solidFill>
                  <a:srgbClr val="ff0000"/>
                </a:solidFill>
                <a:latin typeface="DK Thievery"/>
              </a:rPr>
              <a:t>Jack London 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(xa nos comezos do XX, </a:t>
            </a:r>
            <a:r>
              <a:rPr b="1" i="1" lang="gl-ES" sz="2000" spc="-1" strike="noStrike">
                <a:solidFill>
                  <a:srgbClr val="3c8c93"/>
                </a:solidFill>
                <a:latin typeface="DK Thievery"/>
              </a:rPr>
              <a:t>The Red One</a:t>
            </a: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) van introducindo moitas das claves do xénero (viaxes a través do tempo ou viaxes ao espazo exterior, a combustión espontánea, os extraterrestres…) ás veces en confusa convivencia con outros xéner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como o do terror.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932671w300"/>
          <p:cNvPicPr/>
          <p:nvPr/>
        </p:nvPicPr>
        <p:blipFill>
          <a:blip r:embed="rId1"/>
          <a:srcRect l="0" t="5504" r="0" b="7119"/>
          <a:stretch/>
        </p:blipFill>
        <p:spPr>
          <a:xfrm>
            <a:off x="2428920" y="1809720"/>
            <a:ext cx="2143080" cy="2798640"/>
          </a:xfrm>
          <a:prstGeom prst="rect">
            <a:avLst/>
          </a:prstGeom>
          <a:ln w="0">
            <a:noFill/>
          </a:ln>
        </p:spPr>
      </p:pic>
      <p:sp>
        <p:nvSpPr>
          <p:cNvPr id="5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864E-FCBC-4231-86EE-A2506EAC61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738360"/>
            <a:ext cx="61722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Os comezos dos século XX: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a consolidació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4309920"/>
            <a:ext cx="55720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Edgar Rice Burroughs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i="1" lang="es-ES" sz="2000" spc="-1" strike="noStrike">
                <a:solidFill>
                  <a:srgbClr val="000000"/>
                </a:solidFill>
                <a:latin typeface="DK Thievery"/>
              </a:rPr>
              <a:t>Baixo as lúas de Marte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),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John Carter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co 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ciclo de Marte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e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Carson Napier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co seu homólogo de 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Venus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son representativos do período en Norteamérica, onde publican en revistas “pulp”, bastante denostadas pola crítica até que autores dos considerados “serios” como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Lovecraf, Robert Bloch, Robert E. Howard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, etc. colaboraron nas súas páxinas atraendo a lectores cultos e prestixiando o xénero. En España autores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como Unamuno, Azorín, Blasco Ibáñez, de Maeztu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u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 Jardiel Poncela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tamén recalan no xénero en relatos, novelas e pezas teatrais. En Galiza, desde os anos vinte hai algún achegamento ao tema como a novela de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Otero Espasandín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“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A campaña de Caprecórneca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tumblr_mdt0nne9CZ1qei4kso1_1280"/>
          <p:cNvPicPr/>
          <p:nvPr/>
        </p:nvPicPr>
        <p:blipFill>
          <a:blip r:embed="rId1"/>
          <a:stretch/>
        </p:blipFill>
        <p:spPr>
          <a:xfrm>
            <a:off x="2039760" y="2095560"/>
            <a:ext cx="1317960" cy="20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TWS+-+1936-10+-++0001"/>
          <p:cNvPicPr/>
          <p:nvPr/>
        </p:nvPicPr>
        <p:blipFill>
          <a:blip r:embed="rId2"/>
          <a:stretch/>
        </p:blipFill>
        <p:spPr>
          <a:xfrm>
            <a:off x="3660840" y="2095560"/>
            <a:ext cx="1411200" cy="2085840"/>
          </a:xfrm>
          <a:prstGeom prst="rect">
            <a:avLst/>
          </a:prstGeom>
          <a:ln w="0">
            <a:noFill/>
          </a:ln>
        </p:spPr>
      </p:pic>
      <p:sp>
        <p:nvSpPr>
          <p:cNvPr id="57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0B16-431A-4FA4-BDDA-68E62D1618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944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 segundo cuarto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do século XX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9" name="Picture 7" descr="2001"/>
          <p:cNvPicPr/>
          <p:nvPr/>
        </p:nvPicPr>
        <p:blipFill>
          <a:blip r:embed="rId1"/>
          <a:stretch/>
        </p:blipFill>
        <p:spPr>
          <a:xfrm>
            <a:off x="2571840" y="2525760"/>
            <a:ext cx="1736640" cy="1784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4452840"/>
            <a:ext cx="5357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A partir da década dos 30 xorden os autores que máis lustre lle han dar ao xénero: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Asimov, C. Clarke, R. A. Heinlein 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e outros non “especializados” que definitivamente lle quitarán a etiqueta de “infraliteratura” que aínda soportaba. Son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Karel Capek, Aldous Huxley, C.S. Lewis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 e, en castelán,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Bioy Casares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 ou o propio </a:t>
            </a:r>
            <a:r>
              <a:rPr b="1" lang="es-ES" sz="2400" spc="-1" strike="noStrike">
                <a:solidFill>
                  <a:srgbClr val="ff0000"/>
                </a:solidFill>
                <a:latin typeface="DK Thievery"/>
              </a:rPr>
              <a:t>Borges</a:t>
            </a: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. E moitas destas historias saltaron 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DK Thievery"/>
              </a:rPr>
              <a:t>pantallas dos ci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A5BD-7623-4E54-8CF2-D56BDEF7E0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80172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O período que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poscede á guerra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5024160"/>
            <a:ext cx="61722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Despois da II Guerra Mundial os contos comezan a medrar e convertirse en novelas complexas. A parábola social de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George Orwell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(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1984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) non deixa de ser unha novela futurista e moitos dos autores emblemáticos do xénero que seguirían producindo ata a fin do século son moito máis que autores de “ciencia ficción”.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Asimov, Clifford D. Simak, Arthur C. Clarke, Poul Anderson, Philip K. Dick, Ray Bradbury, Frank Hebert, Stanislav Lem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e moitos outros. Os títulos de varios destes autores sono tamén de senllas películas</a:t>
            </a:r>
            <a:r>
              <a:rPr b="1" lang="es-ES" sz="2000" spc="-1" strike="noStrike">
                <a:solidFill>
                  <a:srgbClr val="3c8c93"/>
                </a:solidFill>
                <a:latin typeface="DK Thievery"/>
              </a:rPr>
              <a:t>: 2001, unha odisea no espazo, Farenheit 451, Dune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Fahrenheit_451-415996848-large"/>
          <p:cNvPicPr/>
          <p:nvPr/>
        </p:nvPicPr>
        <p:blipFill>
          <a:blip r:embed="rId1"/>
          <a:stretch/>
        </p:blipFill>
        <p:spPr>
          <a:xfrm>
            <a:off x="2500200" y="2344680"/>
            <a:ext cx="1630440" cy="2536920"/>
          </a:xfrm>
          <a:prstGeom prst="rect">
            <a:avLst/>
          </a:prstGeom>
          <a:ln w="0">
            <a:noFill/>
          </a:ln>
        </p:spPr>
      </p:pic>
      <p:sp>
        <p:nvSpPr>
          <p:cNvPr id="65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8298-4CF8-4C12-BDA1-D46435770A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1238040"/>
            <a:ext cx="58006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Dos setenta até hoxe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3080" y="4238640"/>
            <a:ext cx="59436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Nos setenta, a ciencia ficción deixa de lado os robots e substitúeos pola exploración da consciencia.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Samuel Ray Delany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 ou </a:t>
            </a:r>
            <a:r>
              <a:rPr b="1" lang="es-ES" sz="2000" spc="-1" strike="noStrike">
                <a:solidFill>
                  <a:srgbClr val="ff0000"/>
                </a:solidFill>
                <a:latin typeface="DK Thievery"/>
              </a:rPr>
              <a:t>Philip K. Dick 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representan esta vía. Nas dúas décadas seguintes chegan os xéneros máis contemporáneos, o cyberpunk, o steampunk o biopunk que reflicten as transformacións e reaccións que as redes informáticas globais e os avances da biotecnoloxía xeran ou ficcionalmente poderían xerar na sociedade. Desencantados e anarquistas, os textos ofrecen unha visión nihilista do mundo. Nesta altura, á familiaridade do xénero co cómic e co cine vén sumarse unha outra forma de cultura tan extracultural como inicialmente o foran aquel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 videoxo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gattaca%20poster"/>
          <p:cNvPicPr/>
          <p:nvPr/>
        </p:nvPicPr>
        <p:blipFill>
          <a:blip r:embed="rId1"/>
          <a:stretch/>
        </p:blipFill>
        <p:spPr>
          <a:xfrm>
            <a:off x="2714760" y="1884240"/>
            <a:ext cx="1436400" cy="2211480"/>
          </a:xfrm>
          <a:prstGeom prst="rect">
            <a:avLst/>
          </a:prstGeom>
          <a:ln w="0">
            <a:noFill/>
          </a:ln>
        </p:spPr>
      </p:pic>
      <p:sp>
        <p:nvSpPr>
          <p:cNvPr id="69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D3AE-F798-416D-B7F1-5D538C688A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1238040"/>
            <a:ext cx="41576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s tópico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4309560"/>
            <a:ext cx="5715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Descobertas tecnolóxicas ou inventos fut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Avances na biotecnoloxía, nanotecnoloxía, bió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Enxeñería xenética, especialmente a clo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Manipulación da psique, dos recordos ou da conduta como experimento cient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 futuro utópico, distópico e case sempre apocal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As viaxes no tempo, a vida extraterreste, as viaxes intergalácticas e a col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do espazo ex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A intelixencia artificial, os robots, os ordenadores e as redes informá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7575d1"/>
                </a:solidFill>
                <a:latin typeface="DK Thievery"/>
              </a:rPr>
              <a:t>O desastre nuclear e o dia desp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DK Thievery"/>
              </a:rPr>
              <a:t>Os heroes desencantados e individual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he-road-1"/>
          <p:cNvPicPr/>
          <p:nvPr/>
        </p:nvPicPr>
        <p:blipFill>
          <a:blip r:embed="rId1"/>
          <a:stretch/>
        </p:blipFill>
        <p:spPr>
          <a:xfrm>
            <a:off x="2286000" y="2166840"/>
            <a:ext cx="2571840" cy="1571760"/>
          </a:xfrm>
          <a:prstGeom prst="rect">
            <a:avLst/>
          </a:prstGeom>
          <a:ln w="0">
            <a:noFill/>
          </a:ln>
        </p:spPr>
      </p:pic>
      <p:sp>
        <p:nvSpPr>
          <p:cNvPr id="73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DDA-2029-4497-A2DF-9C834C9C7A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80172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DK Thievery"/>
              </a:rPr>
              <a:t>Unha derivación da fantasía futurista: os superheroes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2960" y="3809880"/>
            <a:ext cx="5500800" cy="31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Un superheroe é a adaptación moderna do protagonista dos mitos e dos relatos épicos. Un superheroe ten superpoderes, como nos mitos clásicos e defende aos desvalidos e combate a maldade como os heroes cabaleirescos. É tan prototípico coma eles, aínda que o seu ámbito non sexa a narración oral ou a saga lendaria, sen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DK Thievery"/>
              </a:rPr>
              <a:t>a banda deseñ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marvel-season-one-03-194x300"/>
          <p:cNvPicPr/>
          <p:nvPr/>
        </p:nvPicPr>
        <p:blipFill>
          <a:blip r:embed="rId1"/>
          <a:stretch/>
        </p:blipFill>
        <p:spPr>
          <a:xfrm>
            <a:off x="3013200" y="2257560"/>
            <a:ext cx="1058760" cy="155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magesda"/>
          <p:cNvPicPr/>
          <p:nvPr/>
        </p:nvPicPr>
        <p:blipFill>
          <a:blip r:embed="rId2"/>
          <a:stretch/>
        </p:blipFill>
        <p:spPr>
          <a:xfrm>
            <a:off x="1766880" y="2257560"/>
            <a:ext cx="1019160" cy="148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arvel-season-one-04"/>
          <p:cNvPicPr/>
          <p:nvPr/>
        </p:nvPicPr>
        <p:blipFill>
          <a:blip r:embed="rId3"/>
          <a:stretch/>
        </p:blipFill>
        <p:spPr>
          <a:xfrm>
            <a:off x="4202280" y="2274840"/>
            <a:ext cx="1012680" cy="1482840"/>
          </a:xfrm>
          <a:prstGeom prst="rect">
            <a:avLst/>
          </a:prstGeom>
          <a:ln w="0">
            <a:noFill/>
          </a:ln>
        </p:spPr>
      </p:pic>
      <p:sp>
        <p:nvSpPr>
          <p:cNvPr id="79" name="8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775B-CAAB-4A52-B655-E2E80D3744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6:31:36Z</dcterms:created>
  <dc:creator>Organizacion</dc:creator>
  <dc:description/>
  <dc:language>en-US</dc:language>
  <cp:lastModifiedBy>Usuario</cp:lastModifiedBy>
  <dcterms:modified xsi:type="dcterms:W3CDTF">2013-04-15T09:48:57Z</dcterms:modified>
  <cp:revision>25</cp:revision>
  <dc:subject/>
  <dc:title>A ciencia-ficción</dc:title>
</cp:coreProperties>
</file>